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00D2-E81C-4834-92E8-6FF7D3165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A855-9E65-4C2D-91FC-C0820D8C1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1782-AE92-4EB5-A507-7DAC354C4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3BBE-B627-48E9-905C-2021F872B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180D-E380-4AC6-9C29-7DB369DDF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0DB9-73AA-4B88-9E0F-19B194550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EDE9-D7C2-4A47-9FAE-E6C0A5AC2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7003-CF5E-4070-86FD-1A4C70790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11CE-D3FC-4527-B896-DEA523316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131E-9117-4085-BE28-42FC7ABCF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F70D-8216-4BA2-A469-C216C7123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7AE3-ED44-4106-AC09-5F787E225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28AB-D025-480F-A38F-90C0B5A89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AC20-16E1-466A-91AC-A7C4BE8AC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ED46-059F-48AA-ACB4-79E4ABCA4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FCD9-9FEB-4A3A-98EF-1E655ACE3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0F64-D597-445A-97C1-8CA07C126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D85E-FB60-4A53-8055-B46D6FC71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E2CA-AA29-4B9F-8412-F6F3575B4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77A7-09EA-4077-8C6E-A8565C5D5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C68C-D5EB-4024-BC03-978F30771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BA45-C6BC-44E4-9D38-F2EFC03B8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AD05-6AA5-427F-B8AE-6E35DA958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93760" y="706320"/>
            <a:ext cx="4516560" cy="33894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1400" y="4377960"/>
            <a:ext cx="50198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0406-DC98-4F3C-B965-F2BBE9DCD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3DF0-D17C-4E26-A327-06B4F7F03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A47A-1756-44C3-9F87-B807A5865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80D5-BD31-44C2-AAE8-60FAE251B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9960" y="4377960"/>
            <a:ext cx="502128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08C-C29E-4A8A-8DFB-A61694F0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F68-5D94-4D8A-8C61-B25AFD12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339EC-2AF4-4E75-8EB2-46F37C5F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D8D53-A876-4AD8-A7C3-905FFA8C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103F9-1DC6-4558-9920-BF4BA65B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33A36-A510-4FBA-8C9E-26F9864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52271-27AC-4924-84ED-C68B665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ED0F-08EE-46F6-8B45-F806CAF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67825-98EB-4799-B3D5-F662BA5D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33D7C-4AE7-4CD0-97E6-4934080D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86320-25EA-4826-AEA8-4434139B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65FFA-B6B3-4A60-BDDA-EC145B49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81C-B552-45E5-8F22-DC73716F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0A50B-F6AB-4859-B7AA-11DE4D64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15C5A-DB09-444E-BC0E-1ACF17B6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CC485-7440-4023-AA25-33453238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C58B2-0D25-4039-8579-E7F3105D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8261D-9AB2-4CFC-8FE3-E5A0EE3B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AD81C-2FD7-4C15-BA69-3388BDA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A1F88-CEF6-41AF-9A3A-2ACD3040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E04D8-606F-4AFD-B1E6-525FB05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0122E-92A0-4DB5-AC12-651AA88B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CC4CA-8AE8-49CE-B39C-AE68A6F7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CAB-F8F6-4E2F-9DBD-DC07AF21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7E48D-C65E-429D-8C96-7F56E87A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DD18C0-36A4-439A-B53B-A5B7CB9F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06F914-1AF5-41DC-9222-6DC2F7F6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A19E98-5B74-4381-8A5C-3C8F3560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67324C-56C0-4166-B0C0-872FCEF0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AF6C15-1370-424C-B8DF-22D4BE5F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A29EE3-D281-4F89-8BC5-7F775D97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07079-2791-4498-98B3-450A931D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F91131-ACF0-4773-96C4-65CD9888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B74A38-9A9A-4231-A82A-46E7E78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6E10-6794-4F78-81E5-C3FBA8AB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C06E20-60CD-4191-8278-4BD16EE2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7D6E76-D12D-403E-B6A2-F4E35581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027A9B-2BA7-49DE-AFAD-1C07DF3D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04F1-83AA-475E-948E-576792A1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F18EE-025A-4AAD-B56C-89C199D9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35730-7E15-4353-A4DC-7A80684C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5C306-5364-47BB-88E4-DAB21185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B44F9-79C5-41DC-AB22-87FB6A51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FDF37-A3A2-49C0-930B-66C03C39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3BFD8-4D2D-4C8F-A41D-4F9FE7C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452A-0F94-4E88-AD1D-4206297F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A3ADF-9A00-4790-A0D4-20C1C143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21B49-D45D-48DA-A0CF-F0581C29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354FF-E650-4DFA-8490-559FC7E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E3420-68C8-46EE-BCB5-00E5559B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95971-0418-42FD-8FB6-A097EDB5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82DD-CD4C-4756-87CD-01C14D8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80A0-0F1E-486F-B14F-5F4764A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A9B0-269B-4B11-9509-FB0FE98F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69AB-0595-4E5A-9492-9E2834B1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B957-A094-462A-AF6F-E5E17A91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B71-2AFB-4F0B-8152-361F9DDC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D209-0C01-4ACA-A3EB-0C317AC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72CF-2DCE-4D4F-A44F-680DE5FD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A8EF-1EEC-4986-A42C-DD21D9FB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432C-E220-48B3-AE84-9C0D1528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3FB3-62AA-4228-8DCB-59E6C11D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7EA32-14FF-4E51-9BE0-5CC4AE0129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297CE-E764-40E1-BAE7-72895909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DBA73-CC85-4714-AE6A-93D3A29F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E0168-718C-4B41-A7CE-192EE468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CC9DD-9188-41D7-B2DC-82B9D69F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63F-A5F8-423A-97DE-21993E48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D226B-F53D-48A9-98A6-3CA3A0DD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BA726-8441-42E6-8A89-EA167937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FF94B-88E1-46BF-8019-82ED02E2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69592-0506-419F-89AE-36D2D10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E3FEC-109A-498A-9A2A-E6E4EC40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28EC8-862F-446E-9A3B-5313613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3C16D-4BA9-4C0B-854D-C861EF126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EB601-CCE2-427E-8314-987090E4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C03E3-1428-4812-BAA5-8F464372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1877E-B464-438C-AC8C-E9A17CB0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D0F-1284-45D1-BB62-4DECA12B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599EA-C584-4457-9ED6-324213F0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2EB88-E055-43E7-9A41-4BD0944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7DD69-93E1-472F-BA3C-3498F908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6092E-3E99-4982-9272-508D87B7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3627B-1965-4F8B-877E-0D7D122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2E87B-5B6E-4491-8E85-F904AF8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0BCD9-09F9-4F54-A770-9EEE48A3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227CC-9C89-4EC9-AF91-EA8B132C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0B423-1BCF-4C55-BC07-56A1407C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120CB-40DC-47E3-8BB5-BCC44357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770-9D69-488A-A20F-26555C6E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EF2DCF-85A5-43ED-BFBD-26CD21B3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31F26-8BA5-4988-9CBB-3867CAAF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8DEE2-0D11-42A5-AE95-8EB10326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0A67B-B373-4D9E-98EF-DA76F1D4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15799-608B-4A61-9E81-6BEFD4D5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41161-8D72-4511-A008-4751C902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39D9B-EEAD-4646-8816-93D7A191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D3786-52AD-47B3-B42D-5F5ABDEA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87033-DB7A-4F2E-9D2C-8980F1C7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AC914-CEF1-448D-BB6A-2738FD9E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6B3-12D0-4755-9C5D-8B2E61B5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2BEB8-6BA9-4004-A217-98B19F3C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A88F4-2956-4914-8756-31C8CAE4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8C26B-99C4-4A74-9812-0FF18F94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78084-D4C6-40F7-AD89-BC9E73C0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B7316-FB74-451C-9B3F-FA69F306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BDF2C-69D0-4022-908E-EF1577A2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8A960-6E24-4975-8359-ACC3E389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9C7EF-7E96-481A-9201-1249EA28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8C9B6-4829-470A-BAB4-7F92FFA6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FF812-44CA-4E21-AEF6-9006EA8A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734-D5A0-48CA-8ED4-52776AEE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72EE9-6E2A-41D7-AF04-433CF27A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714CD-51B6-47B7-8179-E94E2CB1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ADB97-5C29-4296-9967-EDC5CB73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F8D01-1DB4-4147-B821-B9F3C58D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42231-0C61-4583-B591-05B7F73B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E954B-6D29-4FBB-BDC7-2A78C040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75FDE-CE2C-46E1-8577-E245D49B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5974A-FDE3-4153-A186-99A83E92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1D85B-0E9B-4DA6-B98A-AEC085D0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2AD60-7542-42A2-B7EE-5D011D57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D3C-C7D1-4338-B822-B31C547B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004BF-4583-437E-9C25-9E9B98BA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D3835-0A97-4C7C-9B26-BFBC8EC7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62700-EC17-4A3A-B207-8B7118C5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53A0D-7C69-4C36-BDFC-631B1808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7E09B-A172-44A5-8281-F5DA6DAF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E6C89-D382-448A-A339-747EBBB5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8058C0-5837-4D93-9704-F0B2F09C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A73D9A-5F45-4734-A528-8F830BC7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F31E8-F1EA-432B-97AB-AF37C114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5DA841-8041-4E12-A385-04EB820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4FD-2B09-482D-8E7E-C8C1892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1FA290-1514-441E-83DD-C3072EC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F6F437-70D9-4E7F-A014-BA0B627B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D04435-5443-47FA-8083-C480F43D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6C1A5F-1AEA-4106-8164-32A4544F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5FCBA-F39A-459F-A5DA-C35A8F22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229EE7-09E7-4B9D-89DB-8BD787B4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6DE877-E7A4-4E3D-A02D-DB6B731E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0DE9F-74A5-4391-8BE8-B8C0C868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4CABA-BBD7-4C7A-BAAF-C84832FE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06E4C-46F9-490F-9F29-C48F1871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B53-F65C-4DD2-BE04-8F91C908F2B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7b9899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10AC-6718-4D84-8F0C-7B67D5B77A7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8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29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9791-DC79-4D47-AFA3-BB9C6380D4C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2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Num" idx="33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0AA2-A40B-4B6D-8818-B5FD0007E75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6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9EBF-93C8-44E4-BCFF-7A924489AA4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8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ADA6-07FF-4136-AADF-1B55CF88E25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BEE-017E-4813-8484-6174FBC38AF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2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4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2768-D32E-4016-87CD-6AF6C53BC3C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7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933F-BAE4-4395-A32F-FD3717B7706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0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D410-3EB1-452A-A10C-EF07B8DE239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5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3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8D4C-E2EF-4C11-B68E-E7D0D698628D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6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2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46D8-D32D-48B7-B66E-EEBA75F6A1D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26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TRODUCTION TO WINDOWS FORM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TRODUCTION TO CLASSES AND OBJEC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Day -2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ListBox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display a list of items to a user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be populated by us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method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m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collecti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as the following properti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SelectionMod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Sorte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  <a:ea typeface="Times New Roman"/>
              </a:rPr>
              <a:t>SelectedIndex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  <a:ea typeface="Times New Roman"/>
              </a:rPr>
              <a:t>SelectedItem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0">
              <a:spcBef>
                <a:spcPts val="575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  <a:ea typeface="Times New Roman"/>
              </a:rPr>
              <a:t>ComboBox 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5000"/>
              </a:lnSpc>
              <a:spcBef>
                <a:spcPts val="5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display a drop-down list of items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5000"/>
              </a:lnSpc>
              <a:spcBef>
                <a:spcPts val="5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be populated by using 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)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 method of the Items collection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5000"/>
              </a:lnSpc>
              <a:spcBef>
                <a:spcPts val="5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Has the following properties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lnSpc>
                <a:spcPct val="85000"/>
              </a:lnSpc>
              <a:spcBef>
                <a:spcPts val="5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  <a:ea typeface="Times New Roman"/>
              </a:rPr>
              <a:t>Text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85000"/>
              </a:lnSpc>
              <a:spcBef>
                <a:spcPts val="5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  <a:ea typeface="Times New Roman"/>
              </a:rPr>
              <a:t>Sorted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85000"/>
              </a:lnSpc>
              <a:spcBef>
                <a:spcPts val="5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  <a:ea typeface="Times New Roman"/>
              </a:rPr>
              <a:t>SelectedIndex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85000"/>
              </a:lnSpc>
              <a:spcBef>
                <a:spcPts val="5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  <a:ea typeface="Times New Roman"/>
              </a:rPr>
              <a:t>SelectedItem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CheckBox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5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set Yes/No or True/false option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5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as the following properti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lnSpc>
                <a:spcPct val="85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Tex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85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Checke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RadioButt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1201680" indent="-241200">
              <a:lnSpc>
                <a:spcPct val="85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provide a set of mutually exclusive options to the user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01680" indent="-241200">
              <a:lnSpc>
                <a:spcPct val="85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as the following properti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lnSpc>
                <a:spcPct val="85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Tex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85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Checke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GroupBox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group related controls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Button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	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perform an action when a user clicks it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as the Text property, which is used to set the text displayed on the butt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StatusBar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s used to display the status informati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as the following properti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howPanel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ex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Some common properties found in most of the controls ar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Na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Visibl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Loc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Enabl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Some common events found in most of the controls ar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KeyDow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KeyUp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KeyPres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MouseDow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MouseUp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MouseMov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ReSiz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VisibleChang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(Contd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Resul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You will use the following controls for the given problem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statemen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Lab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TextBox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Butt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84240" y="1523880"/>
            <a:ext cx="89755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-29376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Visual Basic .NE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Supports the four pillars of object-oriented programming: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bstrac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Uses predefined classes provided by the .NET Framework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Allows you to create your own classes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Supports structures that enable you to create your own data type Data Adapter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Also has full support for interfaces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OOP Net Architec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Advantages of Using Classes and Objec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Maintenance of code by introducing modulari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Encapsulation of internal complexities in code from        end-us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Reuse of code across applica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Support for a single interface to implement multiple method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0">
              <a:spcBef>
                <a:spcPts val="601"/>
              </a:spcBef>
              <a:buNone/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Understanding the User Interfa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Futura BdCn B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6600" indent="-336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A user interface is the means by which a user interacts with an application. A well-designed user interface is an effective means of making an application user-friendl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36600" indent="-336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Types of User Interfa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9524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Character user interface (CUI)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79524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Graphical user interface (GUI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336600" indent="0">
              <a:spcBef>
                <a:spcPts val="675"/>
              </a:spcBef>
              <a:buNone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36600" indent="0">
              <a:spcBef>
                <a:spcPts val="675"/>
              </a:spcBef>
              <a:buNone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Introduction to Net Architec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169920" y="1599840"/>
            <a:ext cx="88041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0000"/>
                </a:solidFill>
                <a:uFillTx/>
                <a:latin typeface="Georgia"/>
              </a:rPr>
              <a:t>Abstract Clas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lnSpc>
                <a:spcPct val="9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Contains the skeleton of the methods that derived classes can implement.</a:t>
            </a:r>
            <a:r>
              <a:rPr b="0" lang="en-US" sz="33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ustInherit Class EmployeeDetai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ustOverride Sub Annual_Salary(ByVal m As   Intege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 Cla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Class Emp_detai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herits EmployeeDetails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Overrides Sub Annual_Salary(ByVal m As Intege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' Write the implementation code he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762120"/>
                <a:tab algn="l" pos="11430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 Sub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Class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7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Georgia"/>
              </a:rPr>
              <a:t>Abstract Class (Contd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76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Times New Roman"/>
              </a:rPr>
              <a:t>You can create an abstract class by using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ustInherit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Times New Roman"/>
              </a:rPr>
              <a:t> keyword in the class definitio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76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Times New Roman"/>
              </a:rPr>
              <a:t>You can define a method in an abstract class using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ustOverrid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Times New Roman"/>
              </a:rPr>
              <a:t> keyword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76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Times New Roman"/>
              </a:rPr>
              <a:t>You must implement the method in derived classes using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ride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Times New Roman"/>
              </a:rPr>
              <a:t> keyword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87640" indent="-2876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Times New Roman"/>
              </a:rPr>
              <a:t>If a derived class of an abstract class does not implement one of the abstract methods of the abstract base class, it also must be declared with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ustInherit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Times New Roman"/>
              </a:rPr>
              <a:t> keyword as it also becomes an abstract class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87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re sets of one or more program statements that can be executed by referring to the procedure nam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re the key to modular programming. They simplify the task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of maintaining and debugging the application cod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re useful for performing repetitive tasks, such as fetching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pecific records from a database, and text and control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manipulati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re of three typ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Sub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procedures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Function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procedures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38088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Property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procedures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Sub Procedu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a block of code enclosed with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tatement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Does not return a value. However, it can take arguments,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uch as constants, variables, and expressions that ar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assed to it by the calling cod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ub Check_Acct_Status (ByVal CustAcct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 Integer, ByVal Amount As Sing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tatements of the Sub procedure ar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iven her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Sub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Sub Procedure (Contd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-4190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be defined in a module, a class, or a structur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19040" indent="-4190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be created with one of the following access modifier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03240" indent="-4190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Public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03240" indent="-4190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Protecte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03240" indent="-4190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Frien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03240" indent="-4190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Protected Frien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03240" indent="-4190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Privat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Sub Procedure (Contd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19040" indent="-4190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take arguments. You declare each argument by specifying the argument name and the data type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-4190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have an optional argument. An optional argument must be declared at the end of the argument list and must have a default value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-4190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be called by us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keyword and providing values for all the arguments that are not optional. You can pass arguments to a sub procedure either by value or by referen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-4190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be further categorized a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03240" indent="-41904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General procedures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903240" indent="-41904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Event-handling procedures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Sub Procedure (Contd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-4190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General proced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03240" indent="-4190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Is a block of code that performs a specific task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419040" indent="-4190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vent-handling proced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03240" indent="-4190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Is a block of code that is executed when a specific event occurs, such as the click of a button or the loading of a form in the memory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903240" indent="-4190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Is a combination of the object name and the type of event that has occurred.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Georgia"/>
              </a:rPr>
              <a:t>Function Procedu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a block of code enclosed with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statement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Returns a value to the calling cod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Function Check_Acct_Status (ByVal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stAcct As Integer, ByVal Amount As Single)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' The statements of the Sub procedur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are given her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mou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Func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Function Procedure (Contd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be defined in a module, a class, or a structure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be created with one of the following access modifier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03240" indent="-419040">
              <a:lnSpc>
                <a:spcPct val="9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Courier New"/>
              </a:rPr>
              <a:t>Public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Courier New"/>
              </a:rPr>
              <a:t>Protected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Courier New"/>
              </a:rPr>
              <a:t>Friend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Courier New"/>
              </a:rPr>
              <a:t>Protected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Courier New"/>
              </a:rPr>
              <a:t>Friend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, and </a:t>
            </a: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Courier New"/>
              </a:rPr>
              <a:t>Private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.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93760" indent="-29376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access by default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Us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statement to return a value to the calling procedur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Return value can be trapped by calling a function and assigning the return value of the function to a variabl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Amount = Calculate_Amount(Total_Salary,months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Georgia"/>
              </a:rPr>
              <a:t>Property Procedu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a set of code statements that are used to assign or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retrieve the values of the properties declared within a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module, a class, or a structur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a type of variable that stores the values of an object of a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lass or a structur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help you define a property as read-only, write-only, or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read/write type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of two typ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Courier New"/>
              </a:rPr>
              <a:t>Get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procedures are used to retrieve the values from a property.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Courier New"/>
              </a:rPr>
              <a:t>Set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procedures are used to assign values to a property.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>
              <a:spcBef>
                <a:spcPts val="601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Windows Fo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Is a representation of any window displayed in an applic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accept input from a user and display informat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spcBef>
                <a:spcPts val="675"/>
              </a:spcBef>
              <a:buNone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93760" indent="0">
              <a:spcBef>
                <a:spcPts val="675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Georgia"/>
              </a:rPr>
              <a:t>Property Procedure (Contd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always invoked implicitly by the code that refers to th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roperty, that is, the code uses the name of the property and provides values for all the arguments that are not optiona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5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3487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Georgia"/>
              </a:rPr>
              <a:t>Passing Arguments to a Procedu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You can pass arguments to a procedure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By value using the </a:t>
            </a: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ByVal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keyword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By reference using the </a:t>
            </a:r>
            <a:r>
              <a:rPr b="0" lang="en-US" sz="18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ByRef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keyword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35080" indent="-2350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n Visual Basic .NET, the default argument passing mechanism i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yVal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5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5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Georgia"/>
              </a:rPr>
              <a:t>Parameter Arra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Can be used to pass an array of values for an argument of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 procedur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defined by using the key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Array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You cannot use more than one parameter array in a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rocedure, and it must be the last argument in th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rocedure definition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The parameter array must be passed by value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The code within the procedure must use the parameter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rray as a one-dimensional array. In addition, each element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of the array must be of the same data type as the data typ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Arra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Georgia"/>
              </a:rPr>
              <a:t>Parameter Array (Contd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The parameter array is optional. The default value of a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arameter array is an empty one-dimensional array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The parameter array must be the lone optional argument i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the list of arguments for a procedure. All other argument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receding the parameter array must be us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Georgia"/>
              </a:rPr>
              <a:t>Procedure Overload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eans defining multiple procedures using the same name but different argument lists, also referred to as signatur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When you overload a procedur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Each overloaded version uses the same procedure name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Each overloaded version differs from all the other   overloaded versions in one of the following ways: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The number of argument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The order of the argument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The data types of the arguments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Georgia"/>
              </a:rPr>
              <a:t>Procedure Overloading (Contd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You cannot overload a procedure by varying only one or more of the following items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The procedure modifiers, such as </a:t>
            </a:r>
            <a:r>
              <a:rPr b="0" lang="en-US" sz="2000" spc="-1" strike="noStrike">
                <a:solidFill>
                  <a:srgbClr val="646b86"/>
                </a:solidFill>
                <a:latin typeface="Courier New"/>
                <a:ea typeface="Courier New"/>
              </a:rPr>
              <a:t>Public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646b86"/>
                </a:solidFill>
                <a:latin typeface="Courier New"/>
                <a:ea typeface="Courier New"/>
              </a:rPr>
              <a:t>Shared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, and </a:t>
            </a:r>
            <a:r>
              <a:rPr b="0" lang="en-US" sz="2000" spc="-1" strike="noStrike">
                <a:solidFill>
                  <a:srgbClr val="646b86"/>
                </a:solidFill>
                <a:latin typeface="Courier New"/>
                <a:ea typeface="Courier New"/>
              </a:rPr>
              <a:t>Static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The argument name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The argument modifiers, such as </a:t>
            </a:r>
            <a:r>
              <a:rPr b="0" lang="en-US" sz="2000" spc="-1" strike="noStrike">
                <a:solidFill>
                  <a:srgbClr val="646b86"/>
                </a:solidFill>
                <a:latin typeface="Courier New"/>
                <a:ea typeface="Courier New"/>
              </a:rPr>
              <a:t>ByRef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646b86"/>
                </a:solidFill>
                <a:latin typeface="Courier New"/>
                <a:ea typeface="Courier New"/>
              </a:rPr>
              <a:t>Optional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The data type of the return value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Georgia"/>
              </a:rPr>
              <a:t>Procedure Overrid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3760" indent="-29376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eans redefining a base class procedure in a derived class without changing the name of the procedur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You can override procedures that are declared with the </a:t>
            </a:r>
            <a:r>
              <a:rPr b="0" lang="en-US" sz="2000" spc="-1" strike="noStrike">
                <a:solidFill>
                  <a:srgbClr val="646b86"/>
                </a:solidFill>
                <a:latin typeface="Courier New"/>
                <a:ea typeface="Courier New"/>
              </a:rPr>
              <a:t>Overridable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 keyword in the base class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You need to explicitly declare a procedure in the base class with the </a:t>
            </a:r>
            <a:r>
              <a:rPr b="0" lang="en-US" sz="2000" spc="-1" strike="noStrike">
                <a:solidFill>
                  <a:srgbClr val="646b86"/>
                </a:solidFill>
                <a:latin typeface="Courier New"/>
                <a:ea typeface="Courier New"/>
              </a:rPr>
              <a:t>Overridable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 keyword in order to override it in the derived class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Overridden procedures need to have the same arguments as the inherited members from the base class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The redefined implementation of a procedure in the derived class can call the implementation defined in the parent class by specifying </a:t>
            </a:r>
            <a:r>
              <a:rPr b="0" lang="en-US" sz="2000" spc="-1" strike="noStrike">
                <a:solidFill>
                  <a:srgbClr val="646b86"/>
                </a:solidFill>
                <a:latin typeface="Courier New"/>
                <a:ea typeface="Courier New"/>
              </a:rPr>
              <a:t>MyBase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 keyword before the procedure name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Windows Forms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Windows Form propertie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Are used to determine the appearance of a Windows Form at run tim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Some commonly used properties are: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ackCol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ackgroundIm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tartPosi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WindowSta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293760"/>
                <a:tab algn="l" pos="108432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Windows Form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Windows Forms event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Arial"/>
              </a:rPr>
              <a:t>Clic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Arial"/>
              </a:rPr>
              <a:t>Clos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Arial"/>
              </a:rPr>
              <a:t>Deactivat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Arial"/>
              </a:rPr>
              <a:t>Loa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Arial"/>
              </a:rPr>
              <a:t>MouseMov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Arial"/>
              </a:rPr>
              <a:t>MouseDow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Arial"/>
              </a:rPr>
              <a:t>MouseUp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Windows Form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(Contd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Windows Forms method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30360" indent="-2350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Show(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630360" indent="-2350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Activate(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630360" indent="-2350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Close(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630360" indent="-2350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Courier New"/>
                <a:ea typeface="Times New Roman"/>
              </a:rPr>
              <a:t>SetDesktopLocation(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630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35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Visual Basic .NET provides a number of controls that can be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Times New Roman"/>
              </a:rPr>
              <a:t>added to a form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TextBox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display text to a user or accept input from a user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as the following properti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Tex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Multilin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Passwordcha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(Contd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ab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provide information or description of another control on the Windows Form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as the following properti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lnSpc>
                <a:spcPct val="70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Tex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70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AutoSiz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Task 2: Identify the controls to be used for accepting input from the user. (Contd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  <a:ea typeface="Times New Roman"/>
              </a:rPr>
              <a:t>LinkLab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s used to display the text as a link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as the following properti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lnSpc>
                <a:spcPct val="70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LinkColo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70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ActiveLinkColo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70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DisabledLinkColo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70000"/>
              </a:lnSpc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  <a:ea typeface="Times New Roman"/>
              </a:rPr>
              <a:t>LinkVisite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09:30:57Z</dcterms:created>
  <dc:creator>niit</dc:creator>
  <dc:description/>
  <dc:language>en-US</dc:language>
  <cp:lastModifiedBy>Nitin.Attri</cp:lastModifiedBy>
  <dcterms:modified xsi:type="dcterms:W3CDTF">2008-03-18T05:01:40Z</dcterms:modified>
  <cp:revision>16</cp:revision>
  <dc:subject/>
  <dc:title>Day -2</dc:title>
</cp:coreProperties>
</file>