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04A8-B840-429B-A0A5-935CFB509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0839-E6BA-4BB7-A4F9-097F9C72B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4122-74D3-4412-81BD-364670C48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0573-935C-4C6A-A1B9-E5469A4FA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1B05-BC58-4F61-AB18-F8939BF36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1350-A3CF-4D21-9027-3E8DFBE63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5827-47DF-49D9-82F1-43A8C5775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C016-93FC-4665-9A43-10C5CB5EB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B05F-58DB-47CF-8335-6C1EB7993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A604-30F5-4DBC-8546-D56BEE585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8272-63EB-4700-A92D-A413782B2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8866-FCF4-487F-A64A-938FFF8DB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A49A-2068-433A-A81C-AF40DA8DD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C8B9-249C-4935-B353-334A282A0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6F25-C3DF-4E03-A856-39033F038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6087-A000-4001-9FF6-D3E028CDE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04DD-FA65-4C02-B982-9E93942F9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3098-C540-4240-8143-A465CED93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DE41-08CC-4AD5-847E-7F359019D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0E1A-CE8C-48B4-8FC5-45FF28E03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3F82-F40B-478D-9A5E-9F7FA8503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1FD2-7E97-4CD1-8F3D-32CB7F5E7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BAF6-930B-43E9-8CC2-EAAEA97D6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D599-6AF1-4CF3-BF49-0D87A81B8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4ED9-5FA6-41A5-B3B2-6F620ED6A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8653-7317-4D3E-BF01-EB5F817B4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1C8E-BDEB-4693-9A9A-B60B590A8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E101-AFA1-416A-A806-8976AF3E8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0099-8FE7-4550-B770-994E54561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8557-26C2-447A-A1F2-2A8A98B07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C9ED-988C-432C-AE5B-1124A4703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992F-7336-416C-A4E4-23C1773A4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79E9-354A-41EC-AF86-FE44CC9AC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FE21-2017-415A-B808-6EE2B5779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0C58-4223-427F-B6A3-9AA940D3F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E27C-0048-4271-ABB5-B7F21A117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E869-F526-4DA1-BB3B-15FA137F7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CC81-0483-4B22-ADBA-E2F73746C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4235-6BCE-4A5D-B8D0-F0EB49B23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C8FC-E664-4B12-8727-7E4592410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858D-1CCF-4684-B0AE-4FA6E2B33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8F1-4BD6-45E5-80C4-0C4BBF67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222440"/>
            <a:ext cx="77724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B09-F08E-48F4-A668-3A3D5B4F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13372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22244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22244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3AE-3128-438F-BC9F-CCDC8322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250236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133720"/>
            <a:ext cx="250236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133720"/>
            <a:ext cx="250236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222440"/>
            <a:ext cx="250236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222440"/>
            <a:ext cx="250236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222440"/>
            <a:ext cx="250236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65B-DFBF-4ED0-9FA9-0A466A2F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9B63-9403-4E92-9846-2E837F83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2E66-254A-4C99-9C76-0D726FD0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66D5-7599-4B55-A340-E61CECE8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3792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133720"/>
            <a:ext cx="3792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0879-DC55-41D1-8AC8-2C7CAFC5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1403-0466-46AC-AEBF-1BBBF4F3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6063-D970-40B7-86A6-788458C7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133720"/>
            <a:ext cx="3792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22244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F652-C1A2-442C-94C5-17E0BC3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316-13EA-4133-B73F-D84112E7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3792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13372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65280" y="422244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B5AD-E0A2-49E1-B3F9-3FAB54CE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13372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222440"/>
            <a:ext cx="77724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1AF0-5F4D-49A0-928D-48BAB258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182600" y="4222440"/>
            <a:ext cx="77724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2248-2247-4AA5-857C-D36B4662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5280" y="213372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82600" y="422244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165280" y="422244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2C9D-F7BB-4B31-85FF-868E6E3C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250236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10600" y="2133720"/>
            <a:ext cx="250236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38240" y="2133720"/>
            <a:ext cx="250236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182600" y="4222440"/>
            <a:ext cx="250236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810600" y="4222440"/>
            <a:ext cx="250236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38240" y="4222440"/>
            <a:ext cx="250236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82F0-1235-49FB-82E1-89212811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CED-AC72-408D-82DE-82E899D7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3792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133720"/>
            <a:ext cx="3792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05D-EABA-4A8B-BE8B-5BD39500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44D-15CA-4B32-B155-DC5B477B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2A4-DD0B-4EC2-B734-014EED41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133720"/>
            <a:ext cx="3792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22244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46E-DD9C-498B-87FA-87B77D27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3792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13372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22244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023-ABAE-4DB5-9730-714CF74B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133720"/>
            <a:ext cx="3792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222440"/>
            <a:ext cx="77724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3EE-F954-48A9-96E0-A5CD25BA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2DE9-11C2-4ABB-8455-AAB4B9A3E4C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A83E-2694-4E05-A80B-9B0D8AA57C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5245-A4E2-4FC0-B1EA-C2DE76618F4B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35C9-3BAF-4BF5-BED3-6CEE3D0864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039160" y="6095880"/>
          <a:ext cx="102852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9160" y="6095880"/>
                    <a:ext cx="10285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blacklogo copy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236196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ASP.NET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ing ASP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F6C4-5FBC-47F2-9440-03603CDD3AA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ing of an ASP.NET Application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steps to execute an ASP.NET file are as follow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 Web browser sends a request for an ASP.NET file to a Web server by using a UR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Web server receives the request and retrieves the appropriate ASP.NET file from the disk or mem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Web server forwards the ASP.NET file to the ASP.NET script engine for process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ASP.NET script engine reads the file from top to bottom and executes any server-side script it encoun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processed ASP.NET file is generated as an HTML document and the ASP.NET script engine sends the HTML page to the Web 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Web server then sends the HTML page to the cli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Web browser interprets the output and displays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A9D-8C2C-47F2-966B-FF47043750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1676520"/>
            <a:ext cx="8076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ming Models in ASP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The two types of programming models in ASP.NET are as follow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Web 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59E-F012-421D-96C8-1B6495FF3B1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1676520"/>
            <a:ext cx="8076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ming Models in ASP.NET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Web for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nable you to create the user interface for a Web application.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Can be designed and programmed using Rapid Application Development (RAD) too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Support a rich set of controls, including user-defined and third party controls that make the application user-friend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Web Forms consist of a user interface and application logic that is applied to the components of user interf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12D-EC88-4113-9AF4-E7456256DF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ming Models in ASP.NET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Web Servi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Is defined as a program unit that can be accessed by other applications through the Intern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Can be called by any application over Hypertext Transfer Protocol (HTTP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Make use of Extensible Markup Language to transfer data through HT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Combine the features of component-based development and the Web based application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DAC-77CD-45DF-AEB8-F9AB8D9C2CB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1905120"/>
            <a:ext cx="8077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emonstration-Creating a Web Form In ASP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roblem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WebShoppe Mall has decided to launch the WebShoppe Web site. The WebShoppe wants you to design the new user sign-up form to register the new users for accessing the WebShoppe Web site. The sign-up form should have the first name, last name, user name, password, confirm password, address, city, state, postal code, country, telephone number, and e-mail id fields. The form should display a welcome message when the registration is successfu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457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       </a:t>
            </a: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Hint: Apply styles using CSS to enhance the Web form.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835-40EB-4C85-A0D6-FD6D6C6890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175248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emonstration-Creating a Web Form In ASP.NET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1.</a:t>
            </a: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reate an ASP.NET Web appl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2.</a:t>
            </a: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esign a Web for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3.</a:t>
            </a: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d a style sheet to the WebShoppeSite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85000"/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Redirect a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5.    Run the appl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85000"/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85000"/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724-62DA-41D5-AFD9-B7D3F0FA1E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1981080"/>
            <a:ext cx="80769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tual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A Virtual directory is the main directory of a Web site. This virtual directory contains all the files, subdirectories, script pages, HTML pages, programs, graphics and other resources of a Web si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How do I save an ASP.NET Web application outsid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wwwroo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director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By default, Visual Studio saves the solution file 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Visual Studio Projec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directory in side My Documents. It saves the Web files of an ASP.NET application 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wwwroo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under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Inetpub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directory. To save the entire ASP.NET project outsid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wwwroo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directory, follow the given ste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Create a new folder at the location where you want to save your ASP.NET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Configure the new folder as a virtual directory.  (</a:t>
            </a:r>
            <a:r>
              <a:rPr b="1" i="1" lang="en-US" sz="1400" spc="-1" strike="noStrike">
                <a:solidFill>
                  <a:srgbClr val="006666"/>
                </a:solidFill>
                <a:latin typeface="Verdana"/>
              </a:rPr>
              <a:t>VirtualDir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424-C86C-4E76-8DAB-AB283E0D49F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ing an ASP.NET Application Using Visual Studio .NET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To create an ASP.NET application, the following steps are perform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Select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tart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rograms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icrosoft Visual Studio .NET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Microsoft Visual Studio .NE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2003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command to ope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Start Page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of the Visual Studio .NET I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Select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File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New</a:t>
            </a:r>
            <a:r>
              <a:rPr b="1" lang="en-U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Projec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command to ope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New Projec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dialog bo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Select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Visual C# Project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as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Project Type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in the left pane and then select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ASP.NET Web Application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Template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pane. Click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OK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butt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198-AA26-472D-BA61-D0BE401BCC1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ing an ASP.NET Application Using Visual Studio .NET IDE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WebForm1.aspx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is displayed 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Design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mode. You can add controls to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WebForm1.aspx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from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Toolbox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by using the drag-drop meth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Open the Code Editor window by double-clicking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Web Form1.aspx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in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Design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mode and add the required lines of code for the event handl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Execute the application by selecting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Star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from the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Debug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men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B70-A701-4B15-8866-157D158EBA5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1828800"/>
            <a:ext cx="8076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s Used in an ASP.NET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When you create an ASP.NET application, the following files get crea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AssemblyInfo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Global.as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Web.conf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WebApplication.vsd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12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WebForm1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D0C-3C1B-4C39-BEFF-337C7F1C2B7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 this lesson, you will learn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dentify the components of dynamic Web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dentify the features of ASP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escribe the working of an ASP.NET appl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dentify the files used in ASP.NET Web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dentify the events associated with a Web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dentify the structure of an ASP.NET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dentify the intrinsic objects of ASP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reating Virtual Dire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y First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C1C-AD7E-4808-8286-C120EB0F19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175248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ews of an ASP.NET Application in the Visual Studio .NET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Visual Studio .NET IDE provides the following two views of a Web For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esign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HTML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F74-15CC-42B9-95A2-7E375CB9E83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175248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de-Behind Feature of ASP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872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code-behind feature enables to divide an ASP.NET page into two fi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.aspx file containing the presentation cont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.cs file containing all the application logic, which is called the code-behind fi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872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advantages of code-behind feature are as follow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akes the code easy to understand and debug, by separating application logic from HTML ta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llows the separation of effort between graphic designers who design pages and software engineers who write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liminates the issues of browser incompatibility by allowing code files to exist on the Web server and supporting Web pages to be compiled on dem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DF8-7AA6-4FE9-8540-98D38D3DBCA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75248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er Controls in ASP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rver Control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re the fundamental building blocks of an ASP.NET appl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re components, which can be rendered as markup text on a Web browser and are capable of executing program logics on the serv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rovides an object-oriented programmable interf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an be viewed as special HTML tags, which are processed by the serv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dvantages of Server Controls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utomatic state mainten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Browser independent rend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asily programmable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28A-4DE8-466B-BE63-73FA41D7D78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175248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ing of Server Controls in a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sequence in which a Server Control is processed when the page is requested for the first time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it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Lo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reRen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a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Ren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ispo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Unlo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DFF-7D77-4956-9A01-2C87B77FC8D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175248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ing of Server Controls in a Web Page (Contd.)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processing sequence of the Server Control during a postback event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itializ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Loading view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Lo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Loading the Postback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reRen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av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Ren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Dispo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Unlo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D2B-DE0C-4BC3-8FA5-C32A7E69EFE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ing of Server Controls in a Web Page (Contd.)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following figure shows how the Server Control is processed by the serv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3124080" cy="298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709-B919-4D5F-AC8D-13CDF45AB62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175248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 this lesson, you will learn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mplement HTML Server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mplement Web Server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mplement Validation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mplement User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mplement Custom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Handle Events in ASP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E41-26B3-4E91-82F8-5766F706B1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2819520"/>
            <a:ext cx="2895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20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hierarchy of the Server Controls in ASP.NET is depicted in this fig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81280" y="1384200"/>
          <a:ext cx="5562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384200"/>
                    <a:ext cx="5562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685800" y="18288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ypes of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rol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851-E221-41EA-B3C3-37E43A906E1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75248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ypes of Server Controls (Contd.)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four types of Server Controls in ASP.NET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P.NET HTML Server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P.NET Web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Validation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User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F59-F2A5-492B-B56F-CA81373B87B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75248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ing HTML Server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P.NET HTML controls are server-side replicas of the standard HTML tags and are executed by </a:t>
            </a:r>
            <a:r>
              <a:rPr b="1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aspnet_isapi.dll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o use an HTML control, import 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System.Web.UI.HtmlControl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namespace to a Web For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System.Web.UI.HtmlControl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is derived from 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HtmlControl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base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n example of an HTML control is </a:t>
            </a:r>
            <a:r>
              <a:rPr b="1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HTMLInputTex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, which renders a text b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o create an </a:t>
            </a:r>
            <a:r>
              <a:rPr b="1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HTMLInputText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ontrol, enter the following line of code in a Web For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INPUT Type = Text Runat ="server" ID = "textbox1" value ="Welcom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866-2492-4E1F-B9AC-6F4E2EEBE5A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ducing Web Application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eb applica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re programs that can be executed either on a Web server or in a Web brow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nable you to share and access information over the Internet and corporate intran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an support online commercial transactions, popularly known as e-commer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12C-657E-4B34-AB3E-017D3F0BF72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7524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ing HTML Server Control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following table lists the commonly used HTML controls with corresponding tag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7760" y="3137040"/>
          <a:ext cx="7578720" cy="2936880"/>
        </p:xfrm>
        <a:graphic>
          <a:graphicData uri="http://schemas.openxmlformats.org/drawingml/2006/table">
            <a:tbl>
              <a:tblPr/>
              <a:tblGrid>
                <a:gridCol w="3835440"/>
                <a:gridCol w="37432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HTML server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HTML 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HtmlFo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&lt;form runat=“server”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HtmlInput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&lt;INPUT type = “text” runat=”server”&gt; and &lt;INPUT type = “password” runat=“server”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HtmlInputCheckB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&lt;INPUT type=“checkbox” runat=“server”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HtmlInputRadio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&lt;INPUT type = “radio” runat=“server”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HtmlInputIm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&lt;INPUT type = “image” runat=“server”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039-12F3-4DA1-8BD3-D44B4D1A5B0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7524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ing HTML Server Control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5684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following table lists the commonly used HTML controls with the correspo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568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ags: (Cont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66920" y="3457440"/>
          <a:ext cx="7515000" cy="2330280"/>
        </p:xfrm>
        <a:graphic>
          <a:graphicData uri="http://schemas.openxmlformats.org/drawingml/2006/table">
            <a:tbl>
              <a:tblPr/>
              <a:tblGrid>
                <a:gridCol w="3801960"/>
                <a:gridCol w="371304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HTML server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HTML 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Html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&lt;a runat=“server”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Html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&lt;INPUT type=“button” runat=“server”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Html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&lt;table runat=“server”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HtmlTableR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&lt;tr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HtmlTable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&lt;td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8B9-C23D-45F2-A16F-E30ACF423C8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ing HTML Server Control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5162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Using HTML Server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HTML tags are used as server controls by converting them into HTML Server contro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two new attributes that get added to the HTML control when it is converted to a HTML server control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70120" indent="-231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id 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ttribute: Provides a unique identifier to HTML controls for reference at the 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70120" indent="-231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 runa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attribute: Recognizes the reference as Server Contr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10B-0D8E-441B-985A-2690BB4E268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1752480"/>
            <a:ext cx="80769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ing Web Server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Web contro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Exist in th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</a:rPr>
              <a:t>System.Web.UI.WebControl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namespace and are derived from the WebControl base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Is always closed with a trailing forward slash (/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The following table lists the different categories of Web Server control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" y="4140360"/>
          <a:ext cx="8534520" cy="1973160"/>
        </p:xfrm>
        <a:graphic>
          <a:graphicData uri="http://schemas.openxmlformats.org/drawingml/2006/table">
            <a:tbl>
              <a:tblPr/>
              <a:tblGrid>
                <a:gridCol w="2792520"/>
                <a:gridCol w="5742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Web Contr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Basic Web contr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These are the controls that correspond to the existing HTML tags, such as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TextBox, Label, Button, HyperLink, RadioButton,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 and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CheckBox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List contr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These are the controls used to build lists. These lists can also be bound to a data source. The controls included in this group are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ListBox, DropDownList, CheckBoxList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, and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RadioButtonList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763-086E-42CD-8FC6-CC5E1E210F5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17524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ing Web Server Control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The following table lists different categories of Web Server controls: (Cont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3200400"/>
          <a:ext cx="8686800" cy="2911320"/>
        </p:xfrm>
        <a:graphic>
          <a:graphicData uri="http://schemas.openxmlformats.org/drawingml/2006/table">
            <a:tbl>
              <a:tblPr/>
              <a:tblGrid>
                <a:gridCol w="2840040"/>
                <a:gridCol w="5846760"/>
              </a:tblGrid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Web Contr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78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Rich Web contr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These are the controls used to render an interactive calendar and to display banner advertisements. The controls in this group are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Calendar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and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AdRotator.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There are also additional controls, such as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Toolbar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 and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TreeView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that belong to this category of Web controls. The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Toolbar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 control is used to render a toolbar in client browsers, and the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TreeView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 control is used to present hierarchical data to users in the Windows Explorer style forma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Data contr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These controls are used to display data from a database table. The controls included in this group are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DataGrid, DataList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, and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Courier New"/>
                          <a:ea typeface="Times New Roman"/>
                        </a:rPr>
                        <a:t>Repeater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178-C0E6-4D6B-99BE-70FDDFEF412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1752480"/>
            <a:ext cx="80769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ing Web Server Control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Some of the most commonly used Web Server controls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Text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List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CheckBox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and </a:t>
            </a: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CheckBox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RadioButton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 and </a:t>
            </a: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RadioButton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AdRot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Cale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DropDown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ImageButton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B7D-A8DC-4F26-A631-7FECC7BB7C1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1828800"/>
            <a:ext cx="8076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ing Validation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Validation control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Can be attached to input controls to check the values that a user 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Can be used  to perform tasks, such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checking whether a user has entered any value for a required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testing the entered value against a specific value or pattern of charac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verifying that the entered value lies within a ran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</a:rPr>
              <a:t>The six validation controls in ASP.NET, are as follow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RequiredFieldValid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RegularExpressionValid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CompareValid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RangeValid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Validation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Courier New"/>
              </a:rPr>
              <a:t>CustomValid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53B-0586-48FC-ADB6-06B2D796EC8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1905120"/>
            <a:ext cx="8077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ing Custom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ustom controls are controls that are created by combining one or more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two types of custom controls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eb User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eb Custom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AA8-44DC-478C-854E-36E592005AE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9480" y="18288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b User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8720" algn="just">
              <a:lnSpc>
                <a:spcPct val="100000"/>
              </a:lnSpc>
              <a:spcBef>
                <a:spcPts val="176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eb user control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spcBef>
                <a:spcPts val="176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re ASP.NET pages that are converted into contro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spcBef>
                <a:spcPts val="176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nables you to easily reuse the same content and application logic in multiple ASP.NET pag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spcBef>
                <a:spcPts val="176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nables you to update the content eas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8720" algn="just">
              <a:lnSpc>
                <a:spcPct val="100000"/>
              </a:lnSpc>
              <a:spcBef>
                <a:spcPts val="176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o build a Web user control, save the Web page with a .ascx extens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8720" algn="just">
              <a:lnSpc>
                <a:spcPct val="100000"/>
              </a:lnSpc>
              <a:spcBef>
                <a:spcPts val="176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User control can be created in the similar way as an ASP.NET web form page is creat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8720" algn="just">
              <a:lnSpc>
                <a:spcPct val="100000"/>
              </a:lnSpc>
              <a:spcBef>
                <a:spcPts val="176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difference between ASP.NET web form pages and the User controls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>
              <a:lnSpc>
                <a:spcPct val="100000"/>
              </a:lnSpc>
              <a:spcBef>
                <a:spcPts val="176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User controls do not include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html&gt;&lt;body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and </a:t>
            </a:r>
            <a:r>
              <a:rPr b="0" lang="en-US" sz="1400" spc="-1" strike="noStrike">
                <a:solidFill>
                  <a:srgbClr val="006666"/>
                </a:solidFill>
                <a:latin typeface="Courier New"/>
                <a:ea typeface="Times New Roman"/>
              </a:rPr>
              <a:t>&lt;form runat="server"&gt;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 tags within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F4A-3220-417B-86AB-320B3EDF98C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18288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stom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8720" algn="just">
              <a:lnSpc>
                <a:spcPct val="100000"/>
              </a:lnSpc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ustom control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re compiled software components that can be created to share the same customized control among a number of ASP.NET applic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an be created by using a base control class, such as the WebControl clas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ncapsulate user interface and the application logic that is applied to the user interface into reusable pack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an be accessed by placing the .dll file of the custom control in the bin directory of the Web application that will use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453960" algn="just">
              <a:lnSpc>
                <a:spcPct val="100000"/>
              </a:lnSpc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Has to be registered by using the Register directi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1E8-483A-481A-92C1-BC1C10EFFC4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onents of Dynamic Web Applications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n optimal dynamic Web page combines both client-side scripting and server-side scrip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Client-side scrip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nables to develop Web pages that can dynamically respond to user input without having to interact with a Web 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Helps in reducing network traf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peeds up the response time of a Web appl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Server-side scripting provides dynamic content to users based on the information stored in a remote lo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8A6-EE70-4A09-9A9B-C2F4A21CC68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18288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ing Events in ASP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v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re generated in response to a user ac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re messages that contain details about the user action, which caused the event and the control on which the event occurr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In ASP.NET all events pass two arguments. They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Ob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4572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vent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916-B54B-44E0-B421-2C5CCD05F2E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175248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P.NET Server Control Event Mode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932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932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vents can be generated either on the server-side or on the client-side but the processing of the events happens only on the serv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932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P.NET supports two types of ev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-46368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Postback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-46368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Non-Postback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932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AutoPostback property of a Web Server Control can be used to generate a postback even for a non-postback ev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932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When an event is raised, then the event handler associated with that event is trigger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28A-D470-4693-A9EC-9A18F1DCE2A2}" type="slidenum">
              <a:t>41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18288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onents of Dynamic Web Applications (Contd.)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general rules for using client side scripting and server-side scripting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ny access to data that resides on the client computer or is dependent on the client computer should be implemented using client-side scrip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ny access to data that resides on a Web server or a remote computer, such as a back-end database should be implemented using server-side scrip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D49-D0B5-4F89-A3FC-E1FC39FB47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175248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standing ASP.NET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P.NET is a standard HTML file that contains embedded server-side scrip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P.NET provides the following advantages of server-side scripting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nables to access information from data sources that are stored on a Web server or a computer that is accessible to a Web ser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nables to use a set of programming code called templates to create HTML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Enables to separate HTML design from the data retrieval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3E8-5703-49E2-BF7D-53E66053E6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1905120"/>
            <a:ext cx="8077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P.NET in .NE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SP.NET is built on Microsoft .NET Framewor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Microsoft introduced the .NET Framework to help developers create globally distributed software with Internet functionality and interoperabi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015-9A41-4D17-9654-AB85F7566F9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1905120"/>
            <a:ext cx="8077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P.NET in .NET Framework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following figure illustrates the elements of an ASP.NET applic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2781360"/>
          <a:ext cx="4876920" cy="30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81360"/>
                    <a:ext cx="4876920" cy="30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224-E2FF-4A19-A0DB-E6544FEDEA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1752480"/>
            <a:ext cx="8076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ing of an ASP.NET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After you create an ASP.NET application, the ASP.NET files need to be stored on an IIS server, which is the Web server for the Windows platfor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Verdana"/>
                <a:ea typeface="Times New Roman"/>
              </a:rPr>
              <a:t>The following figure describes how an IIS server processes the request for an ASP.NET f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14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00400" y="3581280"/>
          <a:ext cx="3200400" cy="24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581280"/>
                    <a:ext cx="320040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IT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921-A157-437C-B0B2-F2FB7F00A7C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7:25:22Z</dcterms:created>
  <dc:creator>User Master</dc:creator>
  <dc:description/>
  <dc:language>en-US</dc:language>
  <cp:lastModifiedBy>Nitin.Attri</cp:lastModifiedBy>
  <dcterms:modified xsi:type="dcterms:W3CDTF">2008-03-18T05:26:43Z</dcterms:modified>
  <cp:revision>13</cp:revision>
  <dc:subject/>
  <dc:title>Slide 1</dc:title>
</cp:coreProperties>
</file>