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F8AC-4F0E-4313-9917-EBF828073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97B6-9300-4E5A-9687-27E9658DE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B0CB-B136-446C-B5A6-F27A775D5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E672-2293-4A46-89E1-4780007FD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4BF3-4419-431D-A8EA-55E8E5D82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51E7-83D3-46FC-B6CD-55D1C4588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CD2B-61A8-4492-8E46-615C3F220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7051-851E-407C-8930-09F1E47DE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AAF8-A57F-4BB3-8273-E0654DB75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F0D1-9FD4-473B-9492-0D8D2C58D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C675-FD22-4084-A33D-92F82D2F3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BEE2-9147-48AA-A95D-E407FD2D0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0DA6-0D39-464E-A3A3-E2473FB0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1709-B21C-42EF-B9F3-990D7B73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04C6-F65C-45E4-8B2F-ADF6C9A44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9495-2CB9-46C2-BA90-B8EF01501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97EE-9930-47FA-83F8-4E1CDAC9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D81E-4ECE-4284-ABD7-4F83CE4F6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296F-9C02-4E23-954B-F901C3BFD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DC8D-EC58-4D95-8E89-ED7EE3196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9750-13E2-4DC8-ACF0-B02425A58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9227-5326-4BAC-95C3-5BD2C451F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90DB-76FB-4BA9-AA40-67A0C818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C10F-54F2-44AF-8D38-2D3AEDD3C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3655-88CC-4CE3-ABFE-1064CB2A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C122-2455-4435-B0CE-441A0D94F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24EF-C908-429E-A139-7E6037F82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4FCF-CFEF-47A5-ACD8-D5C52FC16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DE1A-040E-47E1-A6AE-B2DFC3DF8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AFB4-57AA-4AAF-BD9B-40D33E25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CAC0-6C57-4CA6-A46E-76572C0D3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E305-502A-4DEE-B0D2-7850A4988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F1B0-5299-4477-A5D9-9D94B898A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C704-D98F-4DD1-BD82-E44845F52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18F1-B66F-4B96-ABD9-E8AE7FF9F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7509-6C1F-4481-BE0A-D36EFA15E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CD5A-A915-405A-99AB-A2A4955B8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B316-A1CC-4F84-ABC3-E0FAC67A7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C272-BCDE-4794-B067-164A7BB8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7A52-377D-444F-8339-E7CA8052D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9FD0-2536-43A8-9F36-7B477F89A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1C43-95A2-4DA3-87E5-A7FE7D7B7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D58F-9E98-4E02-B3F4-F049DF860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0990-5B69-4D14-A36E-FEDACE1F7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BD74-42DE-4132-8C0A-D702BEAD5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66DC-B2FA-47C9-B213-14BAEE02D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2B41-0AF4-4EAB-A721-CD0BF66E6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6A0D-2512-4C97-8E97-3861D8B99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4BDB-927F-4D1A-BD29-4E62E9EF8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5E84-5E2D-4E9E-A7D8-B4FECD282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040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8304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7776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040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8304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1C2B-8108-4EA8-BC84-0421E2718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032C-D5A8-4C58-B8F4-FE8045C569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272E-237B-424E-AFFB-7E0E51AD0F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9622-6F8E-4727-88AC-55E1353D28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1E84-C5BE-4C05-B95B-CF7FC52375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68BB-594D-4B2C-BFA7-320778BEC8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F6A5D-39ED-408E-A267-61C4D6BA7C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52A0-6411-4091-A0DA-3C4E5D2CF1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B062-D4B3-40F0-876F-F07A48ED7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B17E-02C3-4AB3-AC35-BB4A5D961F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F43C-66BC-4857-8FD4-841ACEE6D0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14B2-9100-42B4-A38D-B463AD3D83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5ABF-3B11-4F63-BFE9-7464089F18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8040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8304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7776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8040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8304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B24D-4F8A-47B5-85A4-775948DBC5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CA0-0FF2-4BDE-ACAE-4E101A9CB2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48B-A046-4C6C-B119-F8CE769004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2B7-540B-438D-A01C-982BE65C84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22B-C6A1-4D91-84E5-0CB23E6535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8B0-A9E4-45A6-885B-1F7232AEB4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24F8-8600-43E2-A39D-56046032BA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4B1-557D-4796-827B-F7E499C1D7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FA8-89BB-493B-9952-13FD004FBE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ABC-F6A5-459B-B008-52F51A7409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690-5D43-441B-A4DC-3E019034E3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96A-D745-4026-8B28-6C131158F3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FFA-18D4-484C-A9E0-7907A69F1D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8040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78304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7776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8040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78304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6B1-2B20-4A2E-BEE5-7AA72689A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777E-26C4-433A-8B16-1F08DB17D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75AF-C92C-4CB6-B563-4D87A6F6E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5637-DAE0-48E6-8485-42E3BD004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CE95-14A8-4876-A776-DED13A79A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0D7D-8EB0-4F27-90E4-B844FD9F6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85E4-6B13-4557-8A42-FE5EDB05F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gradFill rotWithShape="0">
            <a:gsLst>
              <a:gs pos="0">
                <a:srgbClr val="fcfeb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indent="1094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 indent="452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 indent="7952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 indent="7952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 indent="7952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987480"/>
            <a:ext cx="7566120" cy="139680"/>
          </a:xfrm>
          <a:prstGeom prst="rect">
            <a:avLst/>
          </a:prstGeom>
          <a:gradFill rotWithShape="0">
            <a:gsLst>
              <a:gs pos="0">
                <a:srgbClr val="2f4776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BDF5-1611-400C-9587-5A40C55402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gradFill rotWithShape="0">
            <a:gsLst>
              <a:gs pos="0">
                <a:srgbClr val="fcfeb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63560" y="987480"/>
            <a:ext cx="7566120" cy="139680"/>
          </a:xfrm>
          <a:prstGeom prst="rect">
            <a:avLst/>
          </a:prstGeom>
          <a:gradFill rotWithShape="0">
            <a:gsLst>
              <a:gs pos="0">
                <a:srgbClr val="2f4776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indent="1094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 indent="452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 indent="7952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 indent="7952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 indent="7952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11AE-9623-45DE-B10A-A64A1E65AD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gradFill rotWithShape="0">
            <a:gsLst>
              <a:gs pos="0">
                <a:srgbClr val="fcfeb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763560" y="987480"/>
            <a:ext cx="7566120" cy="139680"/>
          </a:xfrm>
          <a:prstGeom prst="rect">
            <a:avLst/>
          </a:prstGeom>
          <a:gradFill rotWithShape="0">
            <a:gsLst>
              <a:gs pos="0">
                <a:srgbClr val="2f4776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indent="1094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 indent="452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 indent="7952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 indent="7952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 indent="7952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095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24CB0DF8-5943-48CE-BE3B-B20ABE49F3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4"/>
          </p:nvPr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Web Applications Using AS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5239-86C2-4B82-A8B8-0AD5747562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9720" y="3172320"/>
            <a:ext cx="705636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P.NET Advanced Concept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ay - 10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76E33A7D-3D9B-48CC-A8E7-3F998433F1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ing and Retrieving Custom Configuration Inform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two methods to store custom configuration in the configuration file are as follow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Key/Value pair method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 key/value pair is added to 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appsettings&gt;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ction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ustom section method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 custom configuration section is added to the configuration fil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4D88FEA1-5023-4DC6-B878-0ECE4B9CD4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Rectangle 1026"/>
          <p:cNvSpPr/>
          <p:nvPr/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ing and Retrieving Custom Configuration Information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ustom section method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nables to store a set of interrelated value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Helps to organize the custom information stored in the configuration file. A custom section handler is defined within 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configSections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tag for the custom section that is added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Line 1027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7072A417-91A0-4F67-8570-96E1C7B640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ing and Retrieving Custom Configuration Information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following code snippet shows how a custom handler and a custom section is added to the configuration file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configuration&gt; &lt;configSections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sectionGroup name="myConfigSettings.group"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section name="tableSettings“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type="System.Configuration.NameValueFileSectionHandler, System"/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/sectionGroup&gt; &lt;/configSections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myConfigSettings.group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tableSettings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add key="tableBackgroundColor“ value="Aqua“ /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add key="tableBorder“ value="2“ /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/tableSettings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/myConfigSettings.group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/configuration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F0B60B37-B088-4313-A555-6DB5B88CED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ing and Retrieving Custom Configuration Information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Retrieving Custom Configuration Inform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retrieval method used depends on the method used to store the custom information in the configuration file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two different methods to retrieve configuration information are as follow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ConfigurationSettings.AppSetting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method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ConfigurationSettings.GetConfig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method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846E860E-0FC9-44EF-AF2A-E7FB5E1BA6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ecuring ASP.NET Web Application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eb application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re prone to security breache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an be secured by using the various security mechanisms in ASP.NET as follow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255680" indent="-1159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uthentication 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255680" indent="-1159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uthorization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255680" indent="-1159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mpersonation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6846338D-FF0D-46EF-91AA-A7C82ED2EA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Rectangle 512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ecuring ASP.NET Web Applications (Contd.)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uthentication 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s the process of validating the identity of the user before granting access to a restricted resourc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uthoriz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s the process of verifying if the authenticated user has permission for accessing the requested resourc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mpersonation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s the process of assuming the identity of the user while requesting for a resource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Line 512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1F8FB1EB-7661-4BF1-BE4D-3AF73692EF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ecuring ASP.NET Web Applications (Contd.)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P.NET addresses the security needs of Web applications by using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icrosoft .NET Framework securit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ternet Information Service (IIS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70872E3B-A340-49B4-BA1A-5CC63FCD2C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icrosoft .NET Framework secur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icrosoft .NET Framework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Has a built-in security system that enables administrators to make decisions about what a specified code is allowed to do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rovides tools that an administrator can use to set the enterprise-wide policy, the machine‑wide policy, the per-user policy, and the application domain-level security policy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DBBE164E-164D-40C7-8B9B-B63418F808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icrosoft .NET Framework security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curity policy is a set of rules that map a security requirement to a set of permissions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ome actions defined by the security policy are as follow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hich code is granted or denied permissions to ru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hat the code is allowed to do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hat the users are permitted to do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hat resources the code can acce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2"/>
          <p:cNvSpPr/>
          <p:nvPr/>
        </p:nvSpPr>
        <p:spPr>
          <a:xfrm>
            <a:off x="609588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2B4C5F0D-C838-40C3-B053-54701D9880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onfiguring IIS for Implementing Secur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IS provides a Microsoft Management Console (MMC)-based interface, called Internet Services Manager, to manage Web sites that are deployed on IIS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By using Internet Services Manager, you can configure the following authentication mechanisms in a Web application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nonymous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Basic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igest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tegrated Windows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356760"/>
            <a:ext cx="81900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SP.NET Advanced Concept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aging Configuration Fil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User Controls &amp; Custom Contr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&amp; Managing Web servi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ackaging &amp; Deploying ASP.Net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DC05-F4BE-4A92-84CD-4A2521F49B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35118307-BA23-4DE1-BE5B-A024F3CCDE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onfiguring an ASP.NET Application for Secur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77760" indent="-406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77760" indent="-406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web.config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file provides various sections for implementing security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77760" indent="-406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ome of the common tags used to configure security are as follow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Authentication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Authorization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Impersonation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6A851E92-4CDE-4516-B40F-1A7323C613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onfiguring an ASP.NET Application for Security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77760" indent="-406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77760" indent="-406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onfiguring an ASP.NET Web Application for Authentication 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Authentication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specifies the method used by an application to authenticate a user requesting access to a restricted resourc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Authentication&gt;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uses the MODE attribute to specify the authentication type to be used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77760" indent="-40608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Various options available with 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MOD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attribute are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Window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Form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Passpor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Non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B5BBCF89-32D1-4BD2-99FA-31B7149A33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onfiguring an ASP.NET Application for Security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77760" indent="-40608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77760" indent="-40608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Overview of Authorization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</a:t>
            </a:r>
            <a:r>
              <a:rPr b="0" lang="en-GB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Authorization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verifies if the authenticated user has the privilege to access the requested resource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P.NET provides the following two mechanisms to authorize a user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12076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File Authorization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12076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URL Authorization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77760" indent="-40608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538D033A-C941-4077-94D8-08DCA77B89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onfiguring an ASP.NET Application for Security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77760" indent="-40608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77760" indent="-40608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onfiguring an ASP.NET Web application for Impersonation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&lt;Impersonation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decides whether the user requests should be executed under a user account or a local system process account that ASP.NET uses for anonymous requests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hen impersonation is enabled, IIS uses the client token to impersonate the client to access resources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82B83DBA-F887-4A7B-B547-73E1425F78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onfiguring an ASP.NET Application for Security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77760" indent="-40608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77760" indent="-40608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onfiguring an ASP.NET Web Application for Authoriz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authorization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element is specified in 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web.config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fil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authorization&gt;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lement includes two child element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12076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allow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12076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deny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54944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687F0BE1-BFAE-468A-A5E1-DD59C8755D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Need For Web Service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 Web service exposes a number of methods to provide functions that can be used by one or more applications, regardless of the programming languages, operating systems, and hardware platforms used to develop them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eb Services provide the following benefit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asy accessibilit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Flexibility in structur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asy Integration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 Web Service has the following element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xtensible Markup Language (XML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imple Object Access Protocol (SOAP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eb Services Description Language (WSDL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Universal Description, Discovery and Integration (UDDI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7F132D70-738E-40C2-BBF4-C591A5E1DC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a Web Servic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788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erform the following steps for creating a Web Service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788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lect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tart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rograms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icrosoft Visual Studio .NET 2003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Microsoft Visual Studio .NET 2003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command to ope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tart Pag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of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Visual Studio .NE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IDE</a:t>
            </a:r>
            <a:r>
              <a:rPr b="0" lang="en-US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788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lect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Visual C#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roject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from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rojec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ype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pane and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P.NET Web Servic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from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emplate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pane 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New Projec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dialog box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788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ype http://localhost/&lt;folder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name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Location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textbox. Click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OK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button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 algn="ctr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5F501970-F00A-4C73-9027-57E97B176C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9" name="Picture 4" descr="img1"/>
          <p:cNvPicPr/>
          <p:nvPr/>
        </p:nvPicPr>
        <p:blipFill>
          <a:blip r:embed="rId1"/>
          <a:stretch/>
        </p:blipFill>
        <p:spPr>
          <a:xfrm>
            <a:off x="2438280" y="2590920"/>
            <a:ext cx="4267440" cy="291456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38098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w Project dialog box</a:t>
            </a:r>
            <a:r>
              <a:rPr b="0" i="1" lang="en-US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868C812C-ABE7-4571-8511-7C5404FD8C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Right-click &lt;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pplication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Courier New"/>
              </a:rPr>
              <a:t>.asmx fil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Courier New"/>
              </a:rPr>
              <a:t>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olution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xplorer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and from the dropdown menu, select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View Cod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to open the &lt;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pplication.asmx.c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&gt; fil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Courier New"/>
              </a:rPr>
              <a:t>. 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he code window appear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d the code inside 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Service1.asmx.c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Class, in the code window as shown in the following example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[WebMethod] public double ConvertValue(double Value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{//Converting Dollars to Euro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return Value*0.81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o build the application, select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Build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Build solution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ommand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3961FC7F-2BF6-4F35-89E3-3DA2040A8A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457200" y="16765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fter creating the Web service, you need to test it to ensure that it functions properly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erform the following steps to test the Web Service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Right-click the </a:t>
            </a:r>
            <a:r>
              <a:rPr b="1" lang="en-GB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&lt;Application.asmx&gt;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file in the </a:t>
            </a:r>
            <a:r>
              <a:rPr b="1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olution Explorer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and select </a:t>
            </a:r>
            <a:r>
              <a:rPr b="1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review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in browser or press </a:t>
            </a:r>
            <a:r>
              <a:rPr b="1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F5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Web Service page is displayed as shown in the following figure. The following figure displays a Web service that is exposing its method C</a:t>
            </a:r>
            <a:r>
              <a:rPr b="0" lang="en-GB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onvertValue. This method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accepts </a:t>
            </a:r>
            <a:r>
              <a:rPr b="0" lang="en-GB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Value 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 parameter of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double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data type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230508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2FFF7A17-2141-44BA-B9E2-AF8DA8CE69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guring ASP.NET Web Applic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eploying an application includes installing and configuring a Web application on IIS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P.NET provides a rich and flexible configuration system for Web application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configuration information for ASP.NET applications is defined and contained in the configuration file named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web.config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onfiguration files enable to set and access configuration settings in a convenient manner without the need for writing scripts for configuration settings and embedding values into the code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ministrators can easily customize configuration-setting values after the deployment of the Web application on the application Web server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92A48A6F-6493-440A-926F-2CFBB3AAC8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206676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4" name="Picture 29" descr="img2"/>
          <p:cNvPicPr/>
          <p:nvPr/>
        </p:nvPicPr>
        <p:blipFill>
          <a:blip r:embed="rId1"/>
          <a:stretch/>
        </p:blipFill>
        <p:spPr>
          <a:xfrm>
            <a:off x="1752480" y="2666880"/>
            <a:ext cx="4800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164CD29D-6482-4384-915B-F94658E683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25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lick the </a:t>
            </a:r>
            <a:r>
              <a:rPr b="1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&lt;method&gt;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link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 the test page, enter the parameters for the method and execute the Web servic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Angsana New"/>
              </a:rPr>
              <a:t>The following figure shows the test page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9" name="Picture 4" descr="img3"/>
          <p:cNvPicPr/>
          <p:nvPr/>
        </p:nvPicPr>
        <p:blipFill>
          <a:blip r:embed="rId1"/>
          <a:stretch/>
        </p:blipFill>
        <p:spPr>
          <a:xfrm>
            <a:off x="2895480" y="3657600"/>
            <a:ext cx="3943440" cy="24112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3505320" y="5486400"/>
            <a:ext cx="1066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19B14840-4061-4A29-AA16-DDDB803413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25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result will appear as shown in the following figure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Angsana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3276720" y="59436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Output Page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6" name="Picture 4" descr="img4"/>
          <p:cNvPicPr/>
          <p:nvPr/>
        </p:nvPicPr>
        <p:blipFill>
          <a:blip r:embed="rId1"/>
          <a:stretch/>
        </p:blipFill>
        <p:spPr>
          <a:xfrm>
            <a:off x="1676520" y="3429000"/>
            <a:ext cx="50101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4085A53B-C09F-4333-BD14-90F70F73A3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Rectangle 6150"/>
          <p:cNvSpPr/>
          <p:nvPr/>
        </p:nvSpPr>
        <p:spPr>
          <a:xfrm>
            <a:off x="6094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25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You need to perform the following steps to invoke the Web Service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reate a new Visual C# projects. Ensure to select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P.NET Web Servic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from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emplate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pan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olution Explorer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, right-click on 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&lt;application name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and select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d Web Referenc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ACF20B44-2B0F-43EB-A7E7-BDD3EFBD17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Rectangle 1027"/>
          <p:cNvSpPr/>
          <p:nvPr/>
        </p:nvSpPr>
        <p:spPr>
          <a:xfrm>
            <a:off x="423720" y="16002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Angsana New"/>
              </a:rPr>
              <a:t>The following dialog box gets displayed: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5" name="Picture 1129" descr="img5"/>
          <p:cNvPicPr/>
          <p:nvPr/>
        </p:nvPicPr>
        <p:blipFill>
          <a:blip r:embed="rId1"/>
          <a:stretch/>
        </p:blipFill>
        <p:spPr>
          <a:xfrm>
            <a:off x="2057400" y="2971800"/>
            <a:ext cx="457200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BF4C8906-D981-441C-B1D8-F82DF72996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Rectangle 2051"/>
          <p:cNvSpPr/>
          <p:nvPr/>
        </p:nvSpPr>
        <p:spPr>
          <a:xfrm>
            <a:off x="380880" y="1600200"/>
            <a:ext cx="8382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d Web Referenc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dialog box, select the </a:t>
            </a:r>
            <a:r>
              <a:rPr b="0" lang="en-US" sz="1200" spc="-1" strike="noStrike">
                <a:solidFill>
                  <a:srgbClr val="006666"/>
                </a:solidFill>
                <a:latin typeface="Verdana"/>
                <a:ea typeface="Courier New"/>
              </a:rPr>
              <a:t>web service nam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o add the reference, click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eb services on the local machin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op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existing services on the local machine will appear as following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CA00DE2E-5A92-4091-924E-DBF522BDF6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Rectangle 1027"/>
          <p:cNvSpPr/>
          <p:nvPr/>
        </p:nvSpPr>
        <p:spPr>
          <a:xfrm>
            <a:off x="609480" y="1600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Rectangle 1029"/>
          <p:cNvSpPr/>
          <p:nvPr/>
        </p:nvSpPr>
        <p:spPr>
          <a:xfrm>
            <a:off x="29145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95" name="Picture 1030" descr="img6"/>
          <p:cNvPicPr/>
          <p:nvPr/>
        </p:nvPicPr>
        <p:blipFill>
          <a:blip r:embed="rId1"/>
          <a:stretch/>
        </p:blipFill>
        <p:spPr>
          <a:xfrm>
            <a:off x="2133720" y="2627280"/>
            <a:ext cx="48765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E3043CE7-23D1-4781-87AE-54AD5C4A08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609480" y="16002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lick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Web Service nam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service.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d Referenc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button is activated as shown in the following figure: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206208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1" name="Picture 4" descr="img7"/>
          <p:cNvPicPr/>
          <p:nvPr/>
        </p:nvPicPr>
        <p:blipFill>
          <a:blip r:embed="rId1"/>
          <a:stretch/>
        </p:blipFill>
        <p:spPr>
          <a:xfrm>
            <a:off x="2209680" y="3124080"/>
            <a:ext cx="41148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57A7FF36-EE43-47C9-9ACC-5209E782AC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Rectangle 1027"/>
          <p:cNvSpPr/>
          <p:nvPr/>
        </p:nvSpPr>
        <p:spPr>
          <a:xfrm>
            <a:off x="609480" y="16002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lick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d Referenc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button. A new localhost is added under the References node 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olution Explorer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as shown in the following figure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6" name="Picture 1028" descr="img8"/>
          <p:cNvPicPr/>
          <p:nvPr/>
        </p:nvPicPr>
        <p:blipFill>
          <a:blip r:embed="rId1"/>
          <a:stretch/>
        </p:blipFill>
        <p:spPr>
          <a:xfrm>
            <a:off x="2362320" y="3429000"/>
            <a:ext cx="4809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81F133DE-05B6-4D00-ABFC-2606CB7B2F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esign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view of the Web form, select the controls, like Textbox, Label, Buttons, and place them on the Web form and change the propertie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d the following code in </a:t>
            </a:r>
            <a:r>
              <a:rPr b="0" lang="en-US" sz="1200" spc="-1" strike="noStrike">
                <a:solidFill>
                  <a:srgbClr val="006666"/>
                </a:solidFill>
                <a:latin typeface="Verdana"/>
                <a:ea typeface="Times New Roman"/>
              </a:rPr>
              <a:t>Button1_Click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event handler to use the Web service as shown in the following example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void BtnConvert_Click(object sender, System.EventArgs e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int intTmp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//declaring object of the Web service cla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Test CDC.localhost.currentDollarConverter obj=new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TestCDC.localhost.currentDollarConverter()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//invoking web method ConvertValu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intTmp=obj.ConvertValue(Convert.ToInt32(txtDollar.Text))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//displaying output in label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Courier New"/>
              </a:rPr>
              <a:t>lblOutput.Text=”The Value in Rupees is: “+intTmp;}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Angsana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450AC476-BA65-4452-9B2B-46F4791292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guring ASP.NET Web Application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ASP.NET configuration system provides the following features that help in deploying a Web application efficiently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onfiguration information is stored in XML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default location of the configuration file is the application’s root directory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system is highly flexible and allows developers to store customized configuration settings in the configuration system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hen a configuration setting is changed in 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web.config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file, ASP.NET automatically detects it and applies the changes in the Web application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3E54F2AC-E249-44FF-A433-67653E1C0B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nd Invoking Web Service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o save the application, select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File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ave Project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option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o run the application, select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ebug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tart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option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59632A09-64B2-46FE-A374-D9796CA31F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04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nvoking COM/COM+ and ActiveX Compone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 .NET, all codes are executed within the Common Language Runtime (CLR) environment.  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Common Object Model (COM) components are developed in unmanaged language and are not executed by the CLR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.NET provides a feature called interoperability, which makes it possible to use COM components within an ASP.NET application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hen an ASP.NET application calls a COM component, a wrapper is created by CLR around the object, known as Runtime-Callable Wrapper (RCW)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RCW accepts incoming requests from ASP.NET application and translates them so that the COM+ component can understand them and pass them onto the COM component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564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55BBE14D-AA5E-4107-8C93-A605DB1C33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60948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nvoking COM/COM+ and ActiveX Component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For example, to add a COM component, perform the following step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lect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tart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rograms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icrosoft Visual Studio .NET 2003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Microsoft Visual Studio .NET 2003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command to ope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tart Pag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of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Visual Studio .NE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IDE</a:t>
            </a:r>
            <a:r>
              <a:rPr b="0" lang="en-US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lect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Visual C#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projects from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rojec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ype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pane and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P.NET Web Servic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from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emplate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pane 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New Projec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dialog box and click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OK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button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lect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rojec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Add Reference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E0C82D48-64AE-4374-932F-A2273D785D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Footer Placeholder 3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nvoking COM/COM+ and ActiveX Component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</a:t>
            </a:r>
            <a:r>
              <a:rPr b="0" lang="en-US" sz="3000" spc="-1" strike="noStrike">
                <a:solidFill>
                  <a:srgbClr val="006666"/>
                </a:solidFill>
                <a:latin typeface="Arial Narrow"/>
                <a:ea typeface="Angsana New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d Reference dialog box is displayed below: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27" name="Picture 4" descr="Lesson_3A_com_01"/>
          <p:cNvPicPr/>
          <p:nvPr/>
        </p:nvPicPr>
        <p:blipFill>
          <a:blip r:embed="rId1"/>
          <a:stretch/>
        </p:blipFill>
        <p:spPr>
          <a:xfrm>
            <a:off x="2590920" y="3259080"/>
            <a:ext cx="35812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4EAE4216-4207-46F6-935A-DD56466E2D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nvoking COM/COM+ and ActiveX Component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lect the COM tab</a:t>
            </a:r>
            <a:r>
              <a:rPr b="0" lang="en-US" sz="1400" spc="-1" strike="noStrike">
                <a:solidFill>
                  <a:srgbClr val="006666"/>
                </a:solidFill>
                <a:latin typeface="Arial Narro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d Referenc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dialog box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 list of available COM components are displayed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lect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icrosoft ActiveX Data Objects Recordset 2.7 Library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from the list and click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lect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button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component is added to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lected Component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pane, this is displayed in the following figure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Line 5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7593C2A2-B116-462B-A2D1-C92E489009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nvoking COM/COM+ and ActiveX Component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Rectangle 185"/>
          <p:cNvSpPr/>
          <p:nvPr/>
        </p:nvSpPr>
        <p:spPr>
          <a:xfrm>
            <a:off x="2419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Rectangle 187"/>
          <p:cNvSpPr/>
          <p:nvPr/>
        </p:nvSpPr>
        <p:spPr>
          <a:xfrm>
            <a:off x="3124080" y="59436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Reference Dialog Box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8" name="Picture 186" descr="Lesson_3A_com_02"/>
          <p:cNvPicPr/>
          <p:nvPr/>
        </p:nvPicPr>
        <p:blipFill>
          <a:blip r:embed="rId1"/>
          <a:stretch/>
        </p:blipFill>
        <p:spPr>
          <a:xfrm>
            <a:off x="1981080" y="2590920"/>
            <a:ext cx="43434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13DE7F4E-69C3-4ACE-AAD5-BB8CA83DF1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Footer Placeholder 3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533520" y="149076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nvoking COM/COM+ and ActiveX Components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lick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OK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button to close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d Referenc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dialog box. 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component that you have added to the project is displayed 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Reference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node 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olution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xplorer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You can use the COM component in the application by specifying its library and class, as shown in the following code snippet:     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ADODB.RecordsetClass rs = new ADODB.RecordsetClass();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F4925BF8-03FA-4841-8448-ED85B73AFF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nvoking COM/COM+ and ActiveX Components (Contd.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524"/>
              </a:spcBef>
              <a:buClr>
                <a:srgbClr val="d60093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voking ActiveX control is much like invoking COM components, but invoking ActiveX involves handling event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524"/>
              </a:spcBef>
              <a:buClr>
                <a:srgbClr val="d60093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following steps invoke a sample ActiveX Control using the VS.NET IDE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oolbox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, select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omponent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tab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Right-click the</a:t>
            </a:r>
            <a:r>
              <a:rPr b="0" lang="en-US" sz="1400" spc="-1" strike="noStrike">
                <a:solidFill>
                  <a:srgbClr val="006666"/>
                </a:solidFill>
                <a:latin typeface="Arial Narro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oolbox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lect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d/Remove Items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from the dropdown menu.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ustomize ToolBox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is displayed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lick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OM Component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tab, scroll down, and then select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ctiveX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control you want to use in the application and Click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OK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rag and drop this control onto the Web form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/ Slide </a:t>
            </a:r>
            <a:fld id="{AD6D0726-2FEF-4AA2-AAEB-A48979E93E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1600200" y="6248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ing a Multi-Tier Web Applica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524"/>
              </a:spcBef>
              <a:buClr>
                <a:srgbClr val="d60093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 multi-tier application is one in which COM components are used to divide a Web application into multiple layers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524"/>
              </a:spcBef>
              <a:buClr>
                <a:srgbClr val="d60093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benefit behind this is that it increases manageability and maintenance of the application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524"/>
              </a:spcBef>
              <a:buClr>
                <a:srgbClr val="d60093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t also makes it feasible for multiple teams of programmers to work on the same application at the same time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B / Slide </a:t>
            </a:r>
            <a:fld id="{E6E9C7B4-D1EF-4A1B-A530-ECF1600D14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2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duction to Deploy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re are four phases in the development of an application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esigni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mplementi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eployment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Once the designing, implementing and testing phases are over, the application is ready for production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eployment can be defined as the process of moving the application from the development computer to the production computer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7AD463ED-FB4E-4F7A-A263-89D55CA3D7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erarchical Configuration System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two types of configuration files supported by ASP.NET are as follows 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machine.confi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web.confi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B / Slide </a:t>
            </a:r>
            <a:fld id="{04397F70-FCCA-4007-AB6C-B58CC6BAD7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2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duction to Deployment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echnically, deployment consists of the following two important processe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sembling Component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reating application structure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B / Slide </a:t>
            </a:r>
            <a:fld id="{35B5F5F0-97AD-403B-B0E5-4FB94B7F60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2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duction to Deployment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sembling Component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volves identification of all the components of an application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ach component is analyzed to identify their dependencies on further component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reating application structure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volves identification of the structure in which the application components must be arranged on the client computer for the application to run successfully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B / Slide </a:t>
            </a:r>
            <a:fld id="{96247F9F-52BC-48A2-9C49-702C738273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2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duction to Deployment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four different deployment techniques available for deploying an application from a development server to the production server are as follow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XCopy deployment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No-touch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icrosoft Windows® Installer (.MSI)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abinet-file (.CAB)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B / Slide </a:t>
            </a:r>
            <a:fld id="{40B88168-0F9E-49ED-9733-3CB5B946A8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2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Rectangle 1026"/>
          <p:cNvSpPr/>
          <p:nvPr/>
        </p:nvSpPr>
        <p:spPr>
          <a:xfrm>
            <a:off x="642960" y="1285920"/>
            <a:ext cx="804384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duction to Deployment (Contd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XCopy deployment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s a process used to copy all the files from one location to another using MS-Dos Xcopy command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No-touch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s a techniques used to deploy an application from the Internet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icrosoft Windows® Installer (.MSI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s a technique used to pack the application components into a Windows Installer or an .MSI fil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abinet-file (.CAB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s a technique used to pack the application components into a cabinet fil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is techniques is commonly used to deploy ActiveX component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Line 1027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B / Slide </a:t>
            </a:r>
            <a:fld id="{8F95EE1A-FE40-410A-8D0E-3D8055FAC0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2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Rectangle 1026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ypes of Deployment Projec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various types of deployment projects available in Visual Studio .NET are as follow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tup projec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eb Setup projec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erge module projec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AB project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Line 1027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B / Slide </a:t>
            </a:r>
            <a:fld id="{F5AF2235-3F07-47B1-AD0E-543969298B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2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ypes of Deployment Project (Contd.)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tup Pro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MSI files created by this process when it gets executed, all the component are copied into the program file folder of the destination folder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eb Setup Project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MSI file created by this process when it gets executed, all the component are copied into virtual root directory on the destination web server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erge Module Project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t allows multiple applications to share the setup code and solve the problem related to versioning of component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ab Projec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is kind of Deployment Project helps you to generate CAB files to bundle the ActiveX control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2"/>
          <p:cNvSpPr/>
          <p:nvPr/>
        </p:nvSpPr>
        <p:spPr>
          <a:xfrm>
            <a:off x="609588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B / Slide </a:t>
            </a:r>
            <a:fld id="{0274287C-0026-485E-99D1-41AF9B3305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2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Rectangle 2050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ing a Web Setup Project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n ASP.NET application needs to be distributed to the clients after finishing the development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For the distribution of an application, Web Setup project is used which automatically configures the application on the production site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Web Setup project creates an installer for ASP.NET web application  which creates a virtual directory and installs all the necessary files on the target computer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 Web Setup project can be created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By using a Setup Wizard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anu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Line 2051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2"/>
          <p:cNvSpPr/>
          <p:nvPr/>
        </p:nvSpPr>
        <p:spPr>
          <a:xfrm>
            <a:off x="609588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B / Slide </a:t>
            </a:r>
            <a:fld id="{AB00B356-5577-4842-A545-952BAB9D64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2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60948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ing With Deployment Editor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deployment editors are used to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pecify the setting, such as defining the location where files should be installed on the target machin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ustomize the user interface that is provided at the time of installing the application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 deployment project contains the following six editor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File System Editor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Registry Edito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File Types Edito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User Interface Edito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ustom Actions Editor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Launch Conditions Edito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File System Edito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2"/>
          <p:cNvSpPr/>
          <p:nvPr/>
        </p:nvSpPr>
        <p:spPr>
          <a:xfrm>
            <a:off x="609588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B / Slide </a:t>
            </a:r>
            <a:fld id="{96969CDF-84A9-4C09-9532-FA63A92F85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2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60948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ing With Deployment Editor (Contd.)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File System Editor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ds or deletes project outputs, components and other files to a deployment project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Registry Editor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pecifies the registry keys and values to be added to already existing keys in the registry file of the target computer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File Types Editor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Helps to associate files of the application with the file types and extensions. It also specifies the actions that can be performed on the file type of a particular file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2"/>
          <p:cNvSpPr/>
          <p:nvPr/>
        </p:nvSpPr>
        <p:spPr>
          <a:xfrm>
            <a:off x="609588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B / Slide </a:t>
            </a:r>
            <a:fld id="{0B433173-1B58-450F-9C01-7B0AECF973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2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60948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ing With Deployment Editor (Contd.)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User Interface Editor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pecifies the interface to be displayed on a target computer at the installation tim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ustom Action Edito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pecifies the additional tasks to follow the installation process on the target computer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Launch Condition Edito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dentifies the conditions required for installation on the target computer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09588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7E47F91E-08DA-42DA-88D6-BADB203A56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ucture of a Configuration Fil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web.config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file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ontains standard XML document element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an be viewed as an application in the Solution Explorer window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following figure displays the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web.config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file in the Solution Explorer Window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" name="Picture 60" descr="lesson9A_01"/>
          <p:cNvPicPr/>
          <p:nvPr/>
        </p:nvPicPr>
        <p:blipFill>
          <a:blip r:embed="rId1"/>
          <a:stretch/>
        </p:blipFill>
        <p:spPr>
          <a:xfrm>
            <a:off x="2895480" y="373392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2"/>
          <p:cNvSpPr/>
          <p:nvPr/>
        </p:nvSpPr>
        <p:spPr>
          <a:xfrm>
            <a:off x="609588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B / Slide </a:t>
            </a:r>
            <a:fld id="{94CFF8D0-5DF1-40D1-AF66-7A00CEE898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22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60948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ployment Guidelines For ASP.NET Application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following guidelines should be followed to address the deployment issue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eploy ASP.NET Application File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eploy the Internet Information Server Settings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eploy Secure Sockets Layer Encryp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2"/>
          <p:cNvSpPr/>
          <p:nvPr/>
        </p:nvSpPr>
        <p:spPr>
          <a:xfrm>
            <a:off x="609588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8B803136-9D6D-4B08-AF4B-E0F410B42B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714240" y="12142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ucture of a Configuration File (Contd.)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ll the elements are encapsulated within the root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configuration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element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basic structure of a configuration file is as follow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configuration&gt; &lt;configSections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  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section name="(sectionName)" type="(Class)"/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  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more section declarations, if an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  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sectionGroup name="(sectionGroup)"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      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section name="(sectionName) type="(Class)"/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      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more section declarations, if an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  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/sectionGroup&gt; more section declarations, if an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/configSections&gt;  &lt;system.web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(sectionName) attribute="(value)"/&gt; more sections, if an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(sectionGroup)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   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(sectionName) attribute="(Value)"/&gt; more sections, if an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/(sectionGroup)&gt; &lt;/system.web&gt; &lt;/configuration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09588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CE454BBD-27C6-4A86-A5B6-8A3FCE3CB6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60948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ucture of a Configuration File (Contd.)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three types of elements included within the root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configuration&gt;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lement are as follow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onfiguration section handler declarations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onfiguration section groups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onfiguration section setting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son 5A / Slide </a:t>
            </a:r>
            <a:fld id="{B6AC3652-08B1-4439-91B1-BEEA4FB5B6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f 34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14479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Developing Web Applications Using ASP.NE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guration Section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configuration sections control and manage the behavior of a Web application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various configuration sections available in ASP.NET are as follow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configSections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Elem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appSettings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Elem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customErrors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Elem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trace&gt;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Elem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compilation&gt;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Elem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browserCaps&gt;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Elem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globalization&gt;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Elem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httpHandlers&gt;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Elem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location&gt;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Elem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processModel&gt;</a:t>
            </a:r>
            <a:r>
              <a:rPr b="0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Elem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38088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2:36:10Z</dcterms:created>
  <dc:creator>Kongkit</dc:creator>
  <dc:description/>
  <dc:language>en-US</dc:language>
  <cp:lastModifiedBy>Nitin.Attri</cp:lastModifiedBy>
  <dcterms:modified xsi:type="dcterms:W3CDTF">2008-03-18T08:03:12Z</dcterms:modified>
  <cp:revision>219</cp:revision>
  <dc:subject/>
  <dc:title>Using ADO.NET</dc:title>
</cp:coreProperties>
</file>